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23D-BC07-439C-8707-75AFA012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F9C-00B4-48EF-8EAE-42E10148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24C-8364-4351-8A66-7EEA33F1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183-1A58-4A26-ACEF-C31264F6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621F-9CC9-4136-BBC0-6A2C7F40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D9CE-EADE-44F2-97DC-37D04511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D652-F1B8-41F1-826A-22BA4608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006-4AA5-44AF-8E35-11282F1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1FA-F2EA-4192-B216-FF95FAE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B62-01F2-4326-BB23-59A6F86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21A-C6C7-433D-A387-9B35D6D8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A2B-EE55-4202-9019-305B793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CD6C-7060-4898-AC58-CCE02E9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632-6BC1-4374-AB5A-2F40607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894-DC1A-49A5-BDBD-35CE8865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2210-91F0-43B7-ACAD-61A505F9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788-DFF1-44C5-A43B-9222E2BB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3D1-E05F-464C-943C-58600FCF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ECF-58A6-4C51-AFC8-7A24904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D14-01A7-43AC-A2D5-C9B58B6E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731-4A44-44FB-9115-E11FBEA1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A6D-FBA9-471D-B48F-B5741A5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D0C-9852-497D-BBAA-9AD9AC8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15D-F4B9-40E3-B9EA-2E865D20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5B71-B8D2-4734-B947-F7A6A8ABC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D61A-949E-4339-A451-52AE55A55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../../AP%20%20Psych/Powerpoint/Mod%2026+27.ppt#Slide 9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454680"/>
            <a:ext cx="579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05740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 Black"/>
              </a:rPr>
              <a:t>Memory and Th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Section 3Q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r. Freccia, N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coe Publi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520" y="454680"/>
            <a:ext cx="579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736560" y="205740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 Black"/>
              </a:rPr>
              <a:t>Memory and Th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Section 3Q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Famous Mr. Freccia, N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coe Publi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066680" y="1905120"/>
            <a:ext cx="80773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Retrieval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rocess of obtaining information stored in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memory is extraordinarily efficient, and  extremely 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1932"/>
                </a:solidFill>
                <a:uFillTx/>
                <a:latin typeface="Times New Roman"/>
              </a:rPr>
              <a:t>Methods of Retrieval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193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Recognition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ability to identify an object, idea or situation as familiar or not (file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gnition abilities suggest much more is stored in memory than one might believ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19320" y="2286000"/>
            <a:ext cx="785016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193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Recall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ability to reconstruct previously learned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#1:  Confabu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illing in memory with material that makes sense but may be not true (often without awarene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tle misinformation may help people misremember (used by cops and lawyer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09480" y="2441520"/>
            <a:ext cx="8001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all Problem #2:  False Memori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lacing misleading information into one's memory of an event without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apists may promote false memories through hypnosis, dream analysis or imagination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3000" y="2133720"/>
            <a:ext cx="53341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all “Bonus”:  Eidetic Memor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hotographic)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 to recall visual details after only a short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graphic Memory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een in about 5% of children but rarely in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bd05131_" descr=""/>
          <p:cNvPicPr/>
          <p:nvPr/>
        </p:nvPicPr>
        <p:blipFill>
          <a:blip r:embed="rId2"/>
          <a:stretch/>
        </p:blipFill>
        <p:spPr>
          <a:xfrm>
            <a:off x="6681960" y="2438280"/>
            <a:ext cx="2462040" cy="312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447920" y="2133720"/>
            <a:ext cx="7696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193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Relear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previously learned material,  will be quicker than the original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193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orgetting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ability to retrieve information once stored in long-term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tation, hypnosis, brain stimulation may allow recovery of forgotten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479480" y="308916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ff"/>
                </a:solidFill>
                <a:uFillTx/>
                <a:latin typeface="Times New Roman"/>
                <a:hlinkClick r:id="rId2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46240" y="3054240"/>
            <a:ext cx="7961400" cy="3805560"/>
            <a:chOff x="1146240" y="3054240"/>
            <a:chExt cx="7961400" cy="3805560"/>
          </a:xfrm>
        </p:grpSpPr>
        <p:sp>
          <p:nvSpPr>
            <p:cNvPr id="280" name=""/>
            <p:cNvSpPr/>
            <p:nvPr/>
          </p:nvSpPr>
          <p:spPr>
            <a:xfrm>
              <a:off x="3807360" y="3054240"/>
              <a:ext cx="5054040" cy="294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528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096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248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644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6940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9632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360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4232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9564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852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6212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212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156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0732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3640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5692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7384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7360" y="343980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7360" y="381348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07360" y="424980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7360" y="468576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7360" y="512208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7360" y="555840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81400" y="5423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1400" y="50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81400" y="4552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1400" y="4101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81400" y="3678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81400" y="330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3680" y="586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99520" y="3427920"/>
              <a:ext cx="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99520" y="4674240"/>
              <a:ext cx="459000" cy="31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8880" y="4986000"/>
              <a:ext cx="4318560" cy="124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72040" y="649152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 in days since learning word 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6240" y="3069720"/>
              <a:ext cx="202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ercentage o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ord list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retaine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en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relearn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bbinghaus forgetting curve” over 30 days – forgett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itially rap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n levels off with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21680" y="2743200"/>
            <a:ext cx="8093520" cy="4276440"/>
            <a:chOff x="1021680" y="2743200"/>
            <a:chExt cx="8093520" cy="4276440"/>
          </a:xfrm>
        </p:grpSpPr>
        <p:sp>
          <p:nvSpPr>
            <p:cNvPr id="325" name=""/>
            <p:cNvSpPr/>
            <p:nvPr/>
          </p:nvSpPr>
          <p:spPr>
            <a:xfrm>
              <a:off x="3437280" y="2743200"/>
              <a:ext cx="567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37280" y="2743200"/>
              <a:ext cx="0" cy="35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7280" y="6261840"/>
              <a:ext cx="567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7280" y="43070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37280" y="46328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37280" y="49586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37280" y="52844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37280" y="56102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37280" y="59360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37280" y="33296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7280" y="365508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7280" y="39812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37280" y="30038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1072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8600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192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820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7276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9560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316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212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7280" y="3199320"/>
              <a:ext cx="294480" cy="1759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732120" y="4828320"/>
              <a:ext cx="221040" cy="130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53160" y="4828320"/>
              <a:ext cx="442440" cy="130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395600" y="4698000"/>
              <a:ext cx="590040" cy="26064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86000" y="4698000"/>
              <a:ext cx="1105920" cy="32544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1920" y="5023800"/>
              <a:ext cx="2580840" cy="130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8320" y="2873160"/>
              <a:ext cx="368280" cy="16941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7000" y="4502520"/>
              <a:ext cx="3023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39120" y="3425760"/>
              <a:ext cx="1235160" cy="642600"/>
            </a:xfrm>
            <a:prstGeom prst="rect">
              <a:avLst/>
            </a:pr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ten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rops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28800" y="4142520"/>
              <a:ext cx="1718280" cy="368280"/>
            </a:xfrm>
            <a:prstGeom prst="rect">
              <a:avLst/>
            </a:pr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n levels o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82480" y="6248160"/>
              <a:ext cx="576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 3  5    9½    14½               25               35½                    49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 in years after completion of Spanish cour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01800" y="2779560"/>
              <a:ext cx="698760" cy="42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1680" y="2903040"/>
              <a:ext cx="16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centage o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cabul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tain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14300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getting curve for Spanish learned in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1936800"/>
            <a:ext cx="79246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active Inter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arlier memory blocks later memory from being rememb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active Inter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ater memory blocks earlier memory from being rememb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get confused between our old/new address/phone #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additional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7924680" cy="461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0"/>
            <a:ext cx="525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 Processing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1981080"/>
            <a:ext cx="792468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emory: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ce of learning over time through the storage and retrieval of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Processing involves three steps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nput, Central Processing,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information received by the brain from the s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Central Processing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oring (memory) and sorting (thoughts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ideas and actions that result from processing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bd00146_" descr=""/>
          <p:cNvPicPr/>
          <p:nvPr/>
        </p:nvPicPr>
        <p:blipFill>
          <a:blip r:embed="rId2"/>
          <a:stretch/>
        </p:blipFill>
        <p:spPr>
          <a:xfrm>
            <a:off x="1066680" y="0"/>
            <a:ext cx="1524240" cy="151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190512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press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Subconsciously blocking memories of embarrassing/frightening experien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1932"/>
                </a:solidFill>
                <a:uFillTx/>
                <a:latin typeface="Times New Roman"/>
              </a:rPr>
              <a:t>Methods of Improving Memory</a:t>
            </a:r>
            <a:r>
              <a:rPr b="0" lang="en-US" sz="30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sed on organization and “chunking”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aningfulness, lack of interference, and degree of original learning influence retriev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nemonic Devic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Technique of using associations to memorize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520" y="454680"/>
            <a:ext cx="579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205740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 Black"/>
              </a:rPr>
              <a:t>Memory and Th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Section 3Q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r. Freccia, N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coe Publi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20574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entral Processing of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nking, Problem Solv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reativi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e ability to process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BS00559_" descr=""/>
          <p:cNvPicPr/>
          <p:nvPr/>
        </p:nvPicPr>
        <p:blipFill>
          <a:blip r:embed="rId2"/>
          <a:stretch/>
        </p:blipFill>
        <p:spPr>
          <a:xfrm>
            <a:off x="3200400" y="4648320"/>
            <a:ext cx="3352680" cy="1901880"/>
          </a:xfrm>
          <a:prstGeom prst="rect">
            <a:avLst/>
          </a:prstGeom>
          <a:ln w="0">
            <a:noFill/>
          </a:ln>
        </p:spPr>
      </p:pic>
      <p:pic>
        <p:nvPicPr>
          <p:cNvPr id="391" name="bd06210_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839960" cy="1387440"/>
          </a:xfrm>
          <a:prstGeom prst="rect">
            <a:avLst/>
          </a:prstGeom>
          <a:ln w="0">
            <a:noFill/>
          </a:ln>
        </p:spPr>
      </p:pic>
      <p:pic>
        <p:nvPicPr>
          <p:cNvPr id="392" name="bd06385_" descr=""/>
          <p:cNvPicPr/>
          <p:nvPr/>
        </p:nvPicPr>
        <p:blipFill>
          <a:blip r:embed="rId4"/>
          <a:stretch/>
        </p:blipFill>
        <p:spPr>
          <a:xfrm>
            <a:off x="1219320" y="4648320"/>
            <a:ext cx="1298520" cy="182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981080"/>
            <a:ext cx="815328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s use four primary devices or “Units of Thought” to process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Imag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ntal representation of a specific event or object (non-preci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sound or design that represents an object or quality (language, writin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Concept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abel for a class of objects/events that share common attributes (liqu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Rul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statement of the relationship between two or more concepts (gra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99ffcc"/>
                </a:solidFill>
                <a:latin typeface="Times New Roman"/>
              </a:rPr>
              <a:t>Images, symbols, concepts and ru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he building blocks of ment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905120"/>
            <a:ext cx="815328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inds of thin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think primarily in three ways: 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directed, non-directed, and meta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Directed Think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atic, logical, goal-directed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Non-directed Think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ee flow of images and ideas with no particular 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Metacognition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inking about thinking (cognit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bd07155_" descr=""/>
          <p:cNvPicPr/>
          <p:nvPr/>
        </p:nvPicPr>
        <p:blipFill>
          <a:blip r:embed="rId2"/>
          <a:stretch/>
        </p:blipFill>
        <p:spPr>
          <a:xfrm>
            <a:off x="7848720" y="5486400"/>
            <a:ext cx="1171440" cy="1295280"/>
          </a:xfrm>
          <a:prstGeom prst="rect">
            <a:avLst/>
          </a:prstGeom>
          <a:ln w="0">
            <a:noFill/>
          </a:ln>
        </p:spPr>
      </p:pic>
      <p:pic>
        <p:nvPicPr>
          <p:cNvPr id="406" name="bd06214_" descr=""/>
          <p:cNvPicPr/>
          <p:nvPr/>
        </p:nvPicPr>
        <p:blipFill>
          <a:blip r:embed="rId3"/>
          <a:stretch/>
        </p:blipFill>
        <p:spPr>
          <a:xfrm>
            <a:off x="1219320" y="5638680"/>
            <a:ext cx="99216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905120"/>
            <a:ext cx="670536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roblem Solv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main purpose of directed thinking and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ategies: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down process (step by step), work backward, compare two possibilities – decisions based on pas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t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bitual strategies or patterns of problem solving based on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id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n a “set” interferes with problem solving (can’t think outside the bo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dd01627_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452520" cy="1371600"/>
          </a:xfrm>
          <a:prstGeom prst="rect">
            <a:avLst/>
          </a:prstGeom>
          <a:ln w="0">
            <a:noFill/>
          </a:ln>
        </p:spPr>
      </p:pic>
      <p:pic>
        <p:nvPicPr>
          <p:cNvPr id="414" name="bd06033_" descr=""/>
          <p:cNvPicPr/>
          <p:nvPr/>
        </p:nvPicPr>
        <p:blipFill>
          <a:blip r:embed="rId3"/>
          <a:stretch/>
        </p:blipFill>
        <p:spPr>
          <a:xfrm>
            <a:off x="7315200" y="4546440"/>
            <a:ext cx="1527120" cy="2311560"/>
          </a:xfrm>
          <a:prstGeom prst="rect">
            <a:avLst/>
          </a:prstGeom>
          <a:ln w="0">
            <a:noFill/>
          </a:ln>
        </p:spPr>
      </p:pic>
      <p:pic>
        <p:nvPicPr>
          <p:cNvPr id="415" name="SY01265_" descr=""/>
          <p:cNvPicPr/>
          <p:nvPr/>
        </p:nvPicPr>
        <p:blipFill>
          <a:blip r:embed="rId4"/>
          <a:stretch/>
        </p:blipFill>
        <p:spPr>
          <a:xfrm>
            <a:off x="8388360" y="2133720"/>
            <a:ext cx="75564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990720" y="1949400"/>
            <a:ext cx="67053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reativ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ing information or abilities in a new and meaningful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 and levels of creativity remain a mystery to psycholog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characteristics ar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lexibility, recombination, and ins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bd06033_" descr=""/>
          <p:cNvPicPr/>
          <p:nvPr/>
        </p:nvPicPr>
        <p:blipFill>
          <a:blip r:embed="rId2"/>
          <a:stretch/>
        </p:blipFill>
        <p:spPr>
          <a:xfrm>
            <a:off x="7315200" y="4546440"/>
            <a:ext cx="1527120" cy="2311560"/>
          </a:xfrm>
          <a:prstGeom prst="rect">
            <a:avLst/>
          </a:prstGeom>
          <a:ln w="0">
            <a:noFill/>
          </a:ln>
        </p:spPr>
      </p:pic>
      <p:pic>
        <p:nvPicPr>
          <p:cNvPr id="420" name="SY01265_" descr=""/>
          <p:cNvPicPr/>
          <p:nvPr/>
        </p:nvPicPr>
        <p:blipFill>
          <a:blip r:embed="rId3"/>
          <a:stretch/>
        </p:blipFill>
        <p:spPr>
          <a:xfrm>
            <a:off x="8388360" y="21337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421" name="dd01627_" descr=""/>
          <p:cNvPicPr/>
          <p:nvPr/>
        </p:nvPicPr>
        <p:blipFill>
          <a:blip r:embed="rId4"/>
          <a:stretch/>
        </p:blipFill>
        <p:spPr>
          <a:xfrm>
            <a:off x="7543800" y="2133720"/>
            <a:ext cx="45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496040" cy="4226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79132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would you arrange six matches to form four equilateral triangles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518184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400800" y="2971800"/>
            <a:ext cx="2743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to the matchstick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981080"/>
            <a:ext cx="48765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exibil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ability to overcome rigidity associated with “se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ntally rearranging parts of a problem to find a novel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s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sudden solution to a problem using recombination of the p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dd01603_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684360" cy="1752480"/>
          </a:xfrm>
          <a:prstGeom prst="rect">
            <a:avLst/>
          </a:prstGeom>
          <a:ln w="0">
            <a:noFill/>
          </a:ln>
        </p:spPr>
      </p:pic>
      <p:pic>
        <p:nvPicPr>
          <p:cNvPr id="443" name="bd05199_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046680" cy="259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6477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 Processing”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19320" y="2209680"/>
            <a:ext cx="769608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ory inputs are managed in two ways; </a:t>
            </a:r>
            <a:r>
              <a:rPr b="0" i="1" lang="en-US" sz="3200" spc="-1" strike="noStrike">
                <a:solidFill>
                  <a:srgbClr val="001932"/>
                </a:solidFill>
                <a:latin typeface="Times New Roman"/>
              </a:rPr>
              <a:t>Selective Attention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1932"/>
                </a:solidFill>
                <a:latin typeface="Times New Roman"/>
              </a:rPr>
              <a:t>Feature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lective Atten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ility to pick and choose among available sensory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Normally select items that satisfy basic needs, are strange/novel, or items of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ature Extrac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cate/focus on special characteristics of incom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936800"/>
            <a:ext cx="7696080" cy="492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43000" y="220968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ree-Stage Memory Theory</a:t>
            </a:r>
            <a:r>
              <a:rPr b="0" i="1" lang="en-US" sz="2800" spc="-1" strike="noStrike">
                <a:solidFill>
                  <a:srgbClr val="6600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/Short Term/Long-Term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66680" y="4267080"/>
            <a:ext cx="8076960" cy="2171520"/>
            <a:chOff x="1066680" y="4267080"/>
            <a:chExt cx="8076960" cy="2171520"/>
          </a:xfrm>
        </p:grpSpPr>
        <p:sp>
          <p:nvSpPr>
            <p:cNvPr id="160" name=""/>
            <p:cNvSpPr/>
            <p:nvPr/>
          </p:nvSpPr>
          <p:spPr>
            <a:xfrm>
              <a:off x="1066680" y="5349240"/>
              <a:ext cx="1193760" cy="9918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3960" y="5349240"/>
              <a:ext cx="1193760" cy="991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1840" y="5349240"/>
              <a:ext cx="1194120" cy="9918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ort-te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49520" y="5349240"/>
              <a:ext cx="1194120" cy="991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ng-te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60440" y="5529240"/>
              <a:ext cx="9835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60440" y="5799960"/>
              <a:ext cx="9835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60440" y="6070320"/>
              <a:ext cx="9835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7720" y="5799960"/>
              <a:ext cx="1193760" cy="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25960" y="5619600"/>
              <a:ext cx="1123560" cy="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25600" y="6070320"/>
              <a:ext cx="1123560" cy="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349240"/>
              <a:ext cx="119376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49520" y="5349240"/>
              <a:ext cx="119412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1840" y="5349240"/>
              <a:ext cx="119412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3960" y="5349240"/>
              <a:ext cx="119376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9800" y="453924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ory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82000" y="4988160"/>
              <a:ext cx="0" cy="36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4760" y="4267080"/>
              <a:ext cx="258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tention to import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r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novel inform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9680" y="4988160"/>
              <a:ext cx="0" cy="54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8640" y="6070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o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20200" y="518364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o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21640" y="607032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triev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2133720"/>
            <a:ext cx="51814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ensory Mem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mediate, initial recording of sensory information in the memor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turing the vast sensory input from external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fast its seemless (think mov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bd05481_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3276720" cy="2567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1981080"/>
            <a:ext cx="83822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hort-Term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ory that holds a few items briefly (15-20 se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up a phone number, then quickly dial before forg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‘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u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 (lump) information to remember more than 7 unrelated items at 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Working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-the-scene processing of briefly stored information for immediate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43000" y="2209680"/>
            <a:ext cx="77724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Long Term Memor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oring information longer term for future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reconstruct stored information from countless facts, experiences and sen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 and rehearsal that is spaced out in time results in longer term mem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314880" y="2124000"/>
            <a:ext cx="5826960" cy="4735080"/>
            <a:chOff x="3314880" y="2124000"/>
            <a:chExt cx="5826960" cy="4735080"/>
          </a:xfrm>
        </p:grpSpPr>
        <p:sp>
          <p:nvSpPr>
            <p:cNvPr id="202" name=""/>
            <p:cNvSpPr/>
            <p:nvPr/>
          </p:nvSpPr>
          <p:spPr>
            <a:xfrm>
              <a:off x="4563000" y="260172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3000" y="546732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3000" y="307944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63000" y="355680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63000" y="403452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63000" y="451224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3000" y="498960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412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2488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6252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0016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3780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63000" y="2192040"/>
              <a:ext cx="0" cy="334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63000" y="587700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875440" y="219168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562640" y="219204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63000" y="5535720"/>
              <a:ext cx="5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449600" y="5535720"/>
              <a:ext cx="169920" cy="27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49600" y="5808600"/>
              <a:ext cx="113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3000" y="5808600"/>
              <a:ext cx="0" cy="6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9000" y="2463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9000" y="3363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9000" y="4374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2240" y="5262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2240" y="5753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48520" y="587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24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5208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864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2628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7076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0804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14880" y="2124000"/>
              <a:ext cx="96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 relear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st on day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8680" y="6216480"/>
              <a:ext cx="351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umber of repetitions  on day 1 of lear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63000" y="2601720"/>
              <a:ext cx="680760" cy="47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4120" y="3079440"/>
              <a:ext cx="680760" cy="136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24880" y="3215520"/>
              <a:ext cx="1474920" cy="95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00160" y="4170960"/>
              <a:ext cx="737640" cy="341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37800" y="4512240"/>
              <a:ext cx="737640" cy="54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990720" y="1981080"/>
            <a:ext cx="274320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mount you remember depends directly on time spent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Over-learning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erial we have already learned increases re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paced Stud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ats c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Brent J. Freccia</cp:lastModifiedBy>
  <dcterms:modified xsi:type="dcterms:W3CDTF">2006-10-30T19:45:05Z</dcterms:modified>
  <cp:revision>114</cp:revision>
  <dc:subject/>
  <dc:title>No Slide Title</dc:title>
</cp:coreProperties>
</file>